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20507"/>
        <c:axId val="25105715"/>
      </c:barChart>
      <c:catAx>
        <c:axId val="376205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05715"/>
        <c:crosses val="autoZero"/>
        <c:auto val="1"/>
        <c:lblAlgn val="ctr"/>
        <c:lblOffset val="100"/>
        <c:noMultiLvlLbl val="0"/>
      </c:catAx>
      <c:valAx>
        <c:axId val="25105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205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3FE7-2F4E-47F6-B33B-16BEEFE2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193-6DC6-47D5-BBC1-5D873602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0383-71E5-4E28-8DFE-A87F8589E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F67B-4BCD-4B11-8E40-0C167B05C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1B3B-0878-40B1-AAF1-EB4A51A1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BAFF-FAD3-4BC6-B3CF-5FA2FD83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F82B-6577-4ACF-A87A-CA49BF2CC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5F07-CF30-4814-8120-251C23B82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213A-2C6E-4F24-BF1B-860FB18C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E060-C5B9-47FB-833F-09163A972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997F-7DA7-4EE2-807A-A3D91F1B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94AB-007D-44F3-BF1A-189BEDFA8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2CC3A5-4BA7-44F4-BE2C-9ECAEB802B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