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77065"/>
        <c:axId val="5147700"/>
      </c:barChart>
      <c:catAx>
        <c:axId val="89377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700"/>
        <c:crosses val="autoZero"/>
        <c:auto val="1"/>
        <c:lblAlgn val="ctr"/>
        <c:lblOffset val="100"/>
        <c:noMultiLvlLbl val="0"/>
      </c:catAx>
      <c:valAx>
        <c:axId val="5147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7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93D-0549-4E1F-AF5D-A6E1CBE6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107-F850-4027-8A36-8256683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521-9189-420E-A95E-D74E3D8A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11B-E379-4425-80F5-F34B8DD1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00A-298B-4C4E-927C-F101278A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8F9-053A-4487-91A3-4A901D2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0FD-E46B-4B96-8096-C3602C21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3A4-51BB-4721-88D6-96D6FE5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E62-2083-4BD7-BAE4-CA27A2A3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4C6-3352-4B7B-8D78-4CDDA18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3A2-2EB6-4E65-A0B8-651884C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4B9-5B34-4E7D-A105-2F904B6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A0348-CB2B-4687-829B-E807EB71E1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