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67257"/>
        <c:axId val="12314691"/>
      </c:barChart>
      <c:catAx>
        <c:axId val="74667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14691"/>
        <c:crosses val="autoZero"/>
        <c:auto val="1"/>
        <c:lblAlgn val="ctr"/>
        <c:lblOffset val="100"/>
        <c:noMultiLvlLbl val="0"/>
      </c:catAx>
      <c:valAx>
        <c:axId val="12314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67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B69F-2816-4E89-98CF-53E879B2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E15-CE76-4F4A-8F8E-D4D5790A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8FC-D485-4787-B5A7-0F8264A3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0AD-ED49-4D03-A78E-E96E0FA4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4DF-F715-4B4C-9B07-85D4C2E2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69B-B445-4FE1-9F6F-2BDE5372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8BF0-491E-4809-AA67-B3F577CE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9EE-FC81-4D77-B9AE-77806E81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A0D2-E0B3-4091-8E9D-D9B1E109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84E0-79B7-46EE-9883-5F8A384D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B3C-8159-4B23-B9D7-8AB9B048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436A-B96E-4BE7-A9E4-E03D860D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34D1F-60CD-4A51-8FB2-E4D03BFE5D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