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68695"/>
        <c:axId val="64470159"/>
      </c:barChart>
      <c:catAx>
        <c:axId val="24868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70159"/>
        <c:crosses val="autoZero"/>
        <c:auto val="1"/>
        <c:lblAlgn val="ctr"/>
        <c:lblOffset val="100"/>
        <c:noMultiLvlLbl val="0"/>
      </c:catAx>
      <c:valAx>
        <c:axId val="64470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8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4D0-A46B-43D6-84EE-54DC1150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654-226C-4B00-BFB1-01AA282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AC7-31EC-4183-B943-2FA50E34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9A1-15E2-49B5-86D1-E384652C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E25-DC30-46A1-854A-1D42ACD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499-4409-44AC-806B-F8C97BE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984-70E0-49C7-AC04-AF88DE3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3D3-BB4F-418E-9823-C824979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C6B-2D01-4488-84D5-85DFAF0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E37-2AFE-4990-B8D7-15B071A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D95-7FAE-4D2A-9A2D-1EC1A1A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2D2-5E31-4C5E-8A5F-E1FAFCF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3317C-2A1F-4D45-8B61-C77F8260B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